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E3B-3F8A-4F12-B29D-470FD164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73F-5075-4981-BCE0-6B6F01A0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7C15-CDBF-497F-BD4B-6A594BB8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70C-0D30-4D4C-A5F0-DDBFE844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0A1F-6542-4CC2-84E0-FDB013E7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B17D-0250-4361-A12C-76249B94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2282-ABAF-436C-B1CA-3F4B4DC7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2796-6408-44CE-A05C-1B4CE8B8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53DA-3D2F-48AF-BE15-E996FF88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2AE7-C3D8-407B-8DA6-A1719C73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653D-2CE3-42A6-A2F2-97C66290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7AB-ED52-4FB2-8B2E-15A92262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BD50-722F-4A53-9F72-B4FC86B0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4BA2-E5DB-4A17-94A4-B4D9FBC1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154A-F088-46F1-B03E-0897804E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CE26-8EAD-4655-AB9C-19054BF4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F7DC-E41E-4459-B987-1441E7E1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172-3C67-438E-A3F5-2609C469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17F-7732-4E09-B73A-734C8748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BDA2-56BB-4D7F-9D8D-07E13DE9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1B7-1C19-4FD2-ADFE-9539C60A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F8A-6E4D-4F81-BB46-4B3EB724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0A1A-AFF7-4558-9638-141F6B42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F1D9-C939-4CEB-A4A0-3C43209B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87FC-8E44-4797-A452-0752C2B3C1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0819-3BA1-4D9A-AEBC-DDB5D362E5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copyright.ogve/fls/fl102.html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igital Citizenship</a:t>
            </a:r>
            <a:br>
              <a:rPr sz="62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good digital citizen in the 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centur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rrie Brow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niversity of West Alabam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chnology and Edu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n can copyright be flexib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en material is in the public domai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en author has granted permiss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en there is a legal excep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en it is covered under fair us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fair us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air use allows portions of a copyrighted work to be used without the author’s permission for specific purpos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specific purposes include “criticism, comment, news reporting, teaching, scholarship, or researc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n can fair use occu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purpose must be clea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nature of the work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amount of the work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effect of the marketabilit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lagiar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11532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lagiarism Defi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 steal or pass off as one’s ow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 use without crediting the sour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 commit litary thef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 present as new and original an idea or product derived form an existing sour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ys NOT to Plagiariz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ite everything!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cknowledge that material is borrow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ovide audience with a source to gain more knowledg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fety on the Web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9196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fety on the Web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ildren's Online Privacy Protection Act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d to keep kids safe on the inter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igned to keep kids private information priv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ent must know if any private information is given out about chil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fety Precau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ny internet providers have parental control options to block certain material from the interne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 providers have a program that can monitor what kids or any users are doing onlin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 SAF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ny sites have cookies or tracking devic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se make it possible to track certain information about users such as name, address, emails, and shopping preferences.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Know where you are at online!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5 Keys to Being a Good Digital Citizen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tiquet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pyright and Fair Us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lagiaris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afety on the Web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afety on your Comput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fety on the Compu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3243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9 Safety Tips for the Compute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et an antivirus software and keep it up to da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stall security patch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a firewal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ure your brows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9 Safety Tips for the Compute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ake control of your ema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reat IM suspiciousl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void file shar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Keep alert of internet sca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n’t file victim to virus hoax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good digital citizen in the 21th Centu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tiquet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pyright and Fair Us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lagiaris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afety on the Web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afety on the Comput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i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.copyright.ogve/fls/fl102.htm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ttp://www.ccsj.edu/blackboard/BB%20copyright_fair_use.pdf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ttp://home.earthlink.net/~cnew/research.ht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ttp://www.livinginternet.com/i/ia_ng.ht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i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ttp://www.ccmostwanted.com/topics/netiquette.ht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ttp://www.albion.com/netiquet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ttp://kidshealth.org/parent/positive/family/net_safety.html#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ttp://www.plagiarism.or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ttp://www.antivirus.about.com/od/security/tips/a/safetytips.ht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tiquet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374328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tiquette – Spelled RESP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et etiquet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set of practices to make internet experience positiv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urtesy in communic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tiquette - Basic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lp new explor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search before asking ???????????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member EMO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eople aren’t organiza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sp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void Flame Wa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tiquet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ook written by Viriginia Shea entitled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Netiquett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top netiquette rule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member the hum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here to same standards online as in real lif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now where you are in cybersp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pect people’s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ke yourself look good on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tiquette – co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ook written by Viriginia Shea entitled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Netiquett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top netiquette rule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hare knowle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eep flame wars under contr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pect other’s priva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n’t abuse pow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 forgiving of other’s mistak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pyright and Fair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419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Copyrigh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right to reproduce or authorize others to reproduc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protects certain kinds of “original works of authorship” published or unpublish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pics include literary, musical, dramatic, choreographed, pictorial, motion, soun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2:52:40Z</dcterms:created>
  <dc:creator> </dc:creator>
  <dc:description/>
  <dc:language>en-US</dc:language>
  <cp:lastModifiedBy> </cp:lastModifiedBy>
  <dcterms:modified xsi:type="dcterms:W3CDTF">2011-04-19T03:37:25Z</dcterms:modified>
  <cp:revision>2</cp:revision>
  <dc:subject/>
  <dc:title>Digital Citizenship What is a good digital citizen in the 21st century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